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B0EE-85D7-4551-BB31-0C1DA1CACDC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A11F-1A01-4908-9410-069E2FA6328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015-5A5F-4E97-9285-380CC4A0336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61A-F0DB-46DC-A7D6-837DE4C0F31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044-CF7B-4D8E-A82F-12E1705D789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97E-CFAA-4285-AE9E-ED039B23916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357-6ED4-483B-BC8F-E007112F39E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9372-9106-46AC-A39F-AFACA790A90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5211-9D0D-470B-8F18-D7FBC818E1D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D0FD-0489-4134-AA88-DAB5BF9656A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DB88-7DCB-4B84-BC96-66342396DFB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39D-4F5E-44B8-9421-9FAD3FB9CF8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704-2945-4FB7-9B0D-D8D5213EDAF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3BF-0EA8-4629-B374-1536A1247DD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0EF-AE84-4668-8D56-25693AF5B63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957-A9C3-430E-A632-3CCCFBAC004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D64-6DD2-410D-84CF-EFEE1B724E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568C-BF5F-4D4F-B630-F9E0D7F3317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BEC-E777-4A05-89A5-2EE3C9DAF5D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4FE-9A1C-4905-9B28-66A344DA1E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FCE-0758-47F4-972F-18EDD704259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F3E5-4B80-478F-80BC-4EFEC24DDF6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EA31-C0E2-4A94-8D0E-FA697509C62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792-C78A-4F59-BE83-23602220509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B77-BB3E-4DA7-A572-58AB9BC2EF9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B1C-FC0C-4552-99F9-F81B4F8EB6C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0A9-6E50-4848-B344-F5DC94133DD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28A6-16E5-4478-BAE4-66EB49729DA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50B-15A9-44BB-BF68-CC62DE0861D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D89-4D18-4FDD-A52E-2A14D46C246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324-9243-4246-9F41-489FC05C0F9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B34-CE45-4829-B7AC-51EB79899DF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1370-ACC2-49C7-8621-ED04E9BC12C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19A-065D-413E-95B6-A07FE4B3790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BC4-AEF1-4DBA-B916-F9DD684E6E9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418C-93B9-4DF2-B4FF-4760084E1E7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B936-9933-4419-A800-DA5853A1D13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165-4BE4-47A1-A487-EE61CD36171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042A-73D7-4641-BEDA-29F9561EF4D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7072-8374-47C7-A8FA-A782DA35408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E65-2628-4852-B3C8-6E520690BD1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CBA-148D-4AC6-B57E-F0F52C33AEF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56B0-F571-482C-844E-0B54C66CEDA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C5F-A96B-442A-946A-58BF0BF5ECF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F495-6596-4F4D-9A85-835FB389E9D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B3E-D354-455E-8FA3-146D287D07E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621E-F5EC-4141-8201-C1910C478EB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FD7-553B-4FE0-883C-B078EDB4643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B680-A4C3-408C-AFAB-4352C915117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26A-286B-43A2-B69F-C7000E6C5A9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216-AB9D-4615-8470-E90CD60CB3F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E7A-28B3-4943-9A7C-6C4F87002B3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EB5-21DD-4019-905C-E9A0495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3E9-DBFA-4E07-84E6-56377D49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4AF-5FF2-42E8-BF4E-410AA5C8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6CF-F31B-4E9A-B16D-7C921C4B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7FD-D676-4701-89DD-89C3A38F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D3A-9730-402C-B220-D5186655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709-A248-4AB8-B7DC-4FF107D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407-1193-4F38-9E5C-80ABCF0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240-272E-4240-845E-C73FF9F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C34-9B48-453E-8B4F-83B0F59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997-D19C-470B-9FFD-288291B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DC7-C360-40FC-89F7-090DF1E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E1E3-ED09-45D7-B835-1C527705AF7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spons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tervention (RTI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I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I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aking Determi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bout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Navigation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Grade Level Team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Support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Evaluation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Team Involv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 Three Ti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RTI Mode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(continued)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unctions of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ersonalized Learner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Personaliz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earner Assessment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5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nking and Learning Styl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7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ultiple Intelligenc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ultiple Intelligences (continued)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1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cademic Assessment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3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creen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5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Elements of RT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of Scree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dicators and Tool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7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agnostic Evaluation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9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of Measurab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cademic Skills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agnostic Assessment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1" name="Picture 5" descr="3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gress Monitoring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3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utcome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5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ummary of Academic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7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Assessment to Ma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ecisions About Instruction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 to Tier II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1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I to Tier III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3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II to Tier II or I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taff Collabo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ithin the RTI Model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ligibility for Speci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ducation Servic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7" name="Picture 4" descr="4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iling Inform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 an Educational Profile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9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lements of an Educational Profile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1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urces of Data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n Educational Profile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eeting th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earning Needs of Stud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5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eneral Grouping Guidelin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9" name="Picture 4" descr="4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1" name="Picture 4" descr="4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I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Picture 4" descr="4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search-Based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ithin the RTI Mod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5" name="Picture 4" descr="4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RT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dapting Instru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7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 Final Wor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Picture 4" descr="5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RTI (continued)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 Multi-Tier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struction Mod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8:30:41Z</dcterms:created>
  <dc:creator>Michelle Lee</dc:creator>
  <dc:description/>
  <dc:language>en-US</dc:language>
  <cp:lastModifiedBy>SAS</cp:lastModifiedBy>
  <dcterms:modified xsi:type="dcterms:W3CDTF">2011-09-12T18:17:27Z</dcterms:modified>
  <cp:revision>10</cp:revision>
  <dc:subject/>
  <dc:title>PowerPoint Presentation</dc:title>
</cp:coreProperties>
</file>